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10.png" ContentType="image/png"/>
  <Override PartName="/ppt/media/image5.wmf" ContentType="image/x-wmf"/>
  <Override PartName="/ppt/media/image35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8.png" ContentType="image/png"/>
  <Override PartName="/ppt/media/image8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2960" y="435276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50920" y="691920"/>
            <a:ext cx="455616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2960" y="435276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window is received SMS window and right one is sending SMS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2960" y="435276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conversation, if the other party is sending video data, Phontage displays data on the video screen window. And user can make dial plan on specific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tated above, I explained to you renewed UI and GUI s of Phontage P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2960" y="435276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ndow manages whole incoming or outgoing call logs. And the recorded list window displays information about recorded convers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2960" y="435276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conversation, if the other party is sending video data, Phontage displays data on the video screen window. And user can make dial plan on specific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tated above, I explained to you renewed UI and GUI s of Phontage P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2960" y="435276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Phontage is a softphone run on PC or PDA. It’s been called as “sotphone”, but as of iPECS phase IV, it’s named as “Phontage”. Phontage is a abbreviation of “phone advantage”. The products are separated to Phontage Basic , Phontage Deluxe and Phontage P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This picture shows connection types of Phon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2960" y="435276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On the softphone of the past, it was divided two kinds of individual pack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ut on the Phontage, user can select basic or deluxe on installation wiz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And on the single manual , it specifies program type for some special fu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UI that’s designed newly gives high degree of convenience and efficiency to u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The new features added on the Phontage are like following tab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Login with ID and Password, it means that user can access iPECS with his/her own ID and pas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Voice mail back up, Phontage can read voice mails from iPECS and store them on it’s local sto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Auto recording, when user starts talking on the phone,  Phontage records it auto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Meet me conference, user can book a conference room and do conference in the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Outlook popup, When phontage gets an incoming call, it displays outlook contact window for the C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Call assistance, Phontage supports simple and easy window to make a outbound c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Transparent window, for privacy, or to do another work, it supports transparent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2960" y="435276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There are two types of registration methods depending on dip switch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Case 1, when the third dip switch of the MFIM is on status, user input userID, password and desired station number then click log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Phontage gets result for registration  requ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However the third dip switch is off status, user id , password and desired station number should be registered on the WebAdm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And User inputs ID and Passwor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2960" y="435276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Additionally, Phontage supports network profile which records target system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By using this profile , user can easily login th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2960" y="435276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As of iPECS phase IV, Phontage is redesigned to offer convenience to users. It supports simple and easy Uis and GU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First, Let’s look into the PDA’s main UIs and GU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This picture is main UI of Phontage P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2960" y="435276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Now, I’ll explain the PC based Phon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As I said before, Phontage for PC has two types of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First one is Basic and the other is Delu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The Delulxe model has more efficient functions than basic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If  you look at this picture, this is main UI of Phontage for P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2960" y="435276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 window is a favorite contact list window to register phone numbers frequently used. And the right window is calling list window, which displays information while conversation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2960" y="435276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cture on the left of this sheet is Flexible button window and right sided is  Phone book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ntage PDA doesn’t use extra personal database but uses information in the Pocket Outlook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08D1-51ED-4756-B240-17D17CF93C2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52040" y="1571760"/>
            <a:ext cx="399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PHONT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9560" y="367200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SMS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8400" y="79200"/>
            <a:ext cx="258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I &amp; GUI– Ph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53880" y="359568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d SMS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00600" y="4038480"/>
            <a:ext cx="3733920" cy="2352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33360" y="4191120"/>
            <a:ext cx="2278080" cy="1600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514600" y="1447920"/>
            <a:ext cx="2954160" cy="2315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373480" y="1295280"/>
            <a:ext cx="563400" cy="457200"/>
          </a:xfrm>
          <a:prstGeom prst="ellipse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233080" y="3200400"/>
            <a:ext cx="351000" cy="11430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62240" y="2286000"/>
            <a:ext cx="1054440" cy="18288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52560" y="914400"/>
            <a:ext cx="35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: New SMS Notification I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68920" y="1600200"/>
          <a:ext cx="2114640" cy="39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68920" y="1600200"/>
                    <a:ext cx="21146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412600" y="19573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 : New SMS Notification I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587760" y="4038480"/>
            <a:ext cx="3651120" cy="2286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336680" y="1600200"/>
            <a:ext cx="3083040" cy="2362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60440" y="7621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ed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5600" y="79200"/>
            <a:ext cx="264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I &amp; GUI – Ph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82440" y="359568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ed Call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95560" y="1523880"/>
            <a:ext cx="563400" cy="457200"/>
          </a:xfrm>
          <a:prstGeom prst="ellipse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95640" y="2362320"/>
            <a:ext cx="843120" cy="19810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22160" y="1195560"/>
            <a:ext cx="36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: Missed Call Notification I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6560" y="210996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 : Missed Call Notification I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705200" y="1752480"/>
          <a:ext cx="2038680" cy="3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5200" y="1752480"/>
                    <a:ext cx="20386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364640" y="760320"/>
            <a:ext cx="26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ed List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8400" y="79200"/>
            <a:ext cx="258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I &amp; GUI– Ph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4560" y="760320"/>
            <a:ext cx="20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Log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22280" y="1295280"/>
            <a:ext cx="3921120" cy="2960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02160" y="1295280"/>
            <a:ext cx="4184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77960" y="760320"/>
            <a:ext cx="27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d Dial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5600" y="79200"/>
            <a:ext cx="264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I &amp; GUI – Ph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556240" y="3429000"/>
            <a:ext cx="3054240" cy="1366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73280" y="1600200"/>
            <a:ext cx="4636800" cy="324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33240" y="3581280"/>
            <a:ext cx="2578320" cy="1206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195560" y="24382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7840" y="5029200"/>
            <a:ext cx="133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78520" y="4952880"/>
            <a:ext cx="25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ication On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9560" y="76320"/>
            <a:ext cx="1679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160" y="695160"/>
            <a:ext cx="73152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▪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새굴림"/>
              </a:rPr>
              <a:t>Softphone for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새굴림"/>
              </a:rPr>
              <a:t>Abbreviation of “Phone advantag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새굴림"/>
              </a:rPr>
              <a:t>Compatibility with ipLDK-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▪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새굴림"/>
              </a:rPr>
              <a:t>Model 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새굴림"/>
              </a:rPr>
              <a:t>Phontage Basic   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새굴림"/>
              </a:rPr>
              <a:t>:  Supports Basic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378" t="16142" r="30311" b="42079"/>
          <a:stretch/>
        </p:blipFill>
        <p:spPr>
          <a:xfrm>
            <a:off x="457200" y="2666880"/>
            <a:ext cx="8305920" cy="3164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3753000"/>
            <a:ext cx="1600200" cy="134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562720" y="2717640"/>
            <a:ext cx="1600200" cy="1349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629400" y="4495680"/>
            <a:ext cx="1546200" cy="1525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162920" y="3200400"/>
            <a:ext cx="1752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Phon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3397320"/>
            <a:ext cx="2210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ote Phon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4267080"/>
            <a:ext cx="1752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LDK-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105520" y="4495680"/>
            <a:ext cx="1452600" cy="898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81480" y="5378400"/>
            <a:ext cx="129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0960" y="76320"/>
            <a:ext cx="400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0440" y="609480"/>
            <a:ext cx="480708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14200">
              <a:lnSpc>
                <a:spcPct val="100000"/>
              </a:lnSpc>
              <a:spcBef>
                <a:spcPts val="400"/>
              </a:spcBef>
              <a:buClr>
                <a:srgbClr val="919191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User can select Basic on installation wiz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38080" y="1600200"/>
            <a:ext cx="5637600" cy="4724280"/>
            <a:chOff x="838080" y="1600200"/>
            <a:chExt cx="5637600" cy="4724280"/>
          </a:xfrm>
        </p:grpSpPr>
        <p:grpSp>
          <p:nvGrpSpPr>
            <p:cNvPr id="63" name=""/>
            <p:cNvGrpSpPr/>
            <p:nvPr/>
          </p:nvGrpSpPr>
          <p:grpSpPr>
            <a:xfrm>
              <a:off x="838080" y="1600200"/>
              <a:ext cx="5637600" cy="236160"/>
              <a:chOff x="838080" y="1600200"/>
              <a:chExt cx="5637600" cy="236160"/>
            </a:xfrm>
          </p:grpSpPr>
          <p:sp>
            <p:nvSpPr>
              <p:cNvPr id="64" name=""/>
              <p:cNvSpPr/>
              <p:nvPr/>
            </p:nvSpPr>
            <p:spPr>
              <a:xfrm>
                <a:off x="1009440" y="160020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etai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38080" y="160020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838080" y="1836360"/>
              <a:ext cx="5637600" cy="236160"/>
              <a:chOff x="838080" y="1836360"/>
              <a:chExt cx="5637600" cy="236160"/>
            </a:xfrm>
          </p:grpSpPr>
          <p:sp>
            <p:nvSpPr>
              <p:cNvPr id="67" name=""/>
              <p:cNvSpPr/>
              <p:nvPr/>
            </p:nvSpPr>
            <p:spPr>
              <a:xfrm>
                <a:off x="1009440" y="183636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Login with ID and Passwo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38080" y="183636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838080" y="2072520"/>
              <a:ext cx="5637600" cy="236160"/>
              <a:chOff x="838080" y="2072520"/>
              <a:chExt cx="5637600" cy="236160"/>
            </a:xfrm>
          </p:grpSpPr>
          <p:sp>
            <p:nvSpPr>
              <p:cNvPr id="70" name=""/>
              <p:cNvSpPr/>
              <p:nvPr/>
            </p:nvSpPr>
            <p:spPr>
              <a:xfrm>
                <a:off x="1009440" y="207252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Flexible Butt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38080" y="207252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838080" y="2308680"/>
              <a:ext cx="5637600" cy="236160"/>
              <a:chOff x="838080" y="2308680"/>
              <a:chExt cx="5637600" cy="236160"/>
            </a:xfrm>
          </p:grpSpPr>
          <p:sp>
            <p:nvSpPr>
              <p:cNvPr id="73" name=""/>
              <p:cNvSpPr/>
              <p:nvPr/>
            </p:nvSpPr>
            <p:spPr>
              <a:xfrm>
                <a:off x="1009440" y="230868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Multi-language supp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38080" y="230868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838080" y="2544840"/>
              <a:ext cx="5637600" cy="236160"/>
              <a:chOff x="838080" y="2544840"/>
              <a:chExt cx="5637600" cy="236160"/>
            </a:xfrm>
          </p:grpSpPr>
          <p:sp>
            <p:nvSpPr>
              <p:cNvPr id="76" name=""/>
              <p:cNvSpPr/>
              <p:nvPr/>
            </p:nvSpPr>
            <p:spPr>
              <a:xfrm>
                <a:off x="1009440" y="254484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Call By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38080" y="254484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838080" y="2781000"/>
              <a:ext cx="5637600" cy="236160"/>
              <a:chOff x="838080" y="2781000"/>
              <a:chExt cx="5637600" cy="236160"/>
            </a:xfrm>
          </p:grpSpPr>
          <p:sp>
            <p:nvSpPr>
              <p:cNvPr id="79" name=""/>
              <p:cNvSpPr/>
              <p:nvPr/>
            </p:nvSpPr>
            <p:spPr>
              <a:xfrm>
                <a:off x="1009440" y="278100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User SMS (Short Message Servic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38080" y="278100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838080" y="3017160"/>
              <a:ext cx="5637600" cy="236160"/>
              <a:chOff x="838080" y="3017160"/>
              <a:chExt cx="5637600" cy="236160"/>
            </a:xfrm>
          </p:grpSpPr>
          <p:sp>
            <p:nvSpPr>
              <p:cNvPr id="82" name=""/>
              <p:cNvSpPr/>
              <p:nvPr/>
            </p:nvSpPr>
            <p:spPr>
              <a:xfrm>
                <a:off x="1009440" y="301716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Automatic Database Synchronization(Outlook, Excel, Goldmine,AC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38080" y="301716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38080" y="3253680"/>
              <a:ext cx="5637600" cy="236160"/>
              <a:chOff x="838080" y="3253680"/>
              <a:chExt cx="5637600" cy="236160"/>
            </a:xfrm>
          </p:grpSpPr>
          <p:sp>
            <p:nvSpPr>
              <p:cNvPr id="85" name=""/>
              <p:cNvSpPr/>
              <p:nvPr/>
            </p:nvSpPr>
            <p:spPr>
              <a:xfrm>
                <a:off x="1009440" y="325368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Incoming Call Pop-up wind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38080" y="325368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838080" y="3489840"/>
              <a:ext cx="5637600" cy="236160"/>
              <a:chOff x="838080" y="3489840"/>
              <a:chExt cx="5637600" cy="236160"/>
            </a:xfrm>
          </p:grpSpPr>
          <p:sp>
            <p:nvSpPr>
              <p:cNvPr id="88" name=""/>
              <p:cNvSpPr/>
              <p:nvPr/>
            </p:nvSpPr>
            <p:spPr>
              <a:xfrm>
                <a:off x="1009440" y="348984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Hotkey Supp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38080" y="348984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838080" y="3726000"/>
              <a:ext cx="5637600" cy="236160"/>
              <a:chOff x="838080" y="3726000"/>
              <a:chExt cx="5637600" cy="236160"/>
            </a:xfrm>
          </p:grpSpPr>
          <p:sp>
            <p:nvSpPr>
              <p:cNvPr id="91" name=""/>
              <p:cNvSpPr/>
              <p:nvPr/>
            </p:nvSpPr>
            <p:spPr>
              <a:xfrm>
                <a:off x="1009440" y="372600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Database Import/Export(Outlook, Excel, Goldmine,AC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38080" y="372600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080" y="3962160"/>
              <a:ext cx="5637600" cy="236160"/>
              <a:chOff x="838080" y="3962160"/>
              <a:chExt cx="5637600" cy="236160"/>
            </a:xfrm>
          </p:grpSpPr>
          <p:sp>
            <p:nvSpPr>
              <p:cNvPr id="94" name=""/>
              <p:cNvSpPr/>
              <p:nvPr/>
            </p:nvSpPr>
            <p:spPr>
              <a:xfrm>
                <a:off x="1009440" y="396216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User Connection Profi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38080" y="396216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838080" y="4198680"/>
              <a:ext cx="5637600" cy="236160"/>
              <a:chOff x="838080" y="4198680"/>
              <a:chExt cx="5637600" cy="236160"/>
            </a:xfrm>
          </p:grpSpPr>
          <p:sp>
            <p:nvSpPr>
              <p:cNvPr id="97" name=""/>
              <p:cNvSpPr/>
              <p:nvPr/>
            </p:nvSpPr>
            <p:spPr>
              <a:xfrm>
                <a:off x="1009440" y="419868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Smart Tray Icon &amp; Men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38080" y="419868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838080" y="4434840"/>
              <a:ext cx="5637600" cy="236160"/>
              <a:chOff x="838080" y="4434840"/>
              <a:chExt cx="5637600" cy="236160"/>
            </a:xfrm>
          </p:grpSpPr>
          <p:sp>
            <p:nvSpPr>
              <p:cNvPr id="100" name=""/>
              <p:cNvSpPr/>
              <p:nvPr/>
            </p:nvSpPr>
            <p:spPr>
              <a:xfrm>
                <a:off x="1009440" y="443484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Quick Call Men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38080" y="443484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838080" y="4671000"/>
              <a:ext cx="5637600" cy="236160"/>
              <a:chOff x="838080" y="4671000"/>
              <a:chExt cx="5637600" cy="236160"/>
            </a:xfrm>
          </p:grpSpPr>
          <p:sp>
            <p:nvSpPr>
              <p:cNvPr id="103" name=""/>
              <p:cNvSpPr/>
              <p:nvPr/>
            </p:nvSpPr>
            <p:spPr>
              <a:xfrm>
                <a:off x="1009440" y="467100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Simple Dial-pad pop-u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8080" y="467100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838080" y="4907160"/>
              <a:ext cx="5637600" cy="236160"/>
              <a:chOff x="838080" y="4907160"/>
              <a:chExt cx="5637600" cy="236160"/>
            </a:xfrm>
          </p:grpSpPr>
          <p:sp>
            <p:nvSpPr>
              <p:cNvPr id="106" name=""/>
              <p:cNvSpPr/>
              <p:nvPr/>
            </p:nvSpPr>
            <p:spPr>
              <a:xfrm>
                <a:off x="1009440" y="490716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Display Mode (Clock, Calendar) – Outlook Schedu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38080" y="490716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838080" y="5143320"/>
              <a:ext cx="5637600" cy="236160"/>
              <a:chOff x="838080" y="5143320"/>
              <a:chExt cx="5637600" cy="236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009440" y="514332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Phone Book Cal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38080" y="514332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838080" y="5379480"/>
              <a:ext cx="5637600" cy="236160"/>
              <a:chOff x="838080" y="5379480"/>
              <a:chExt cx="5637600" cy="236160"/>
            </a:xfrm>
          </p:grpSpPr>
          <p:sp>
            <p:nvSpPr>
              <p:cNvPr id="112" name=""/>
              <p:cNvSpPr/>
              <p:nvPr/>
            </p:nvSpPr>
            <p:spPr>
              <a:xfrm>
                <a:off x="1009440" y="537948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Phone Book Manag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38080" y="537948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838080" y="5615640"/>
              <a:ext cx="5637600" cy="236160"/>
              <a:chOff x="838080" y="5615640"/>
              <a:chExt cx="5637600" cy="236160"/>
            </a:xfrm>
          </p:grpSpPr>
          <p:sp>
            <p:nvSpPr>
              <p:cNvPr id="115" name=""/>
              <p:cNvSpPr/>
              <p:nvPr/>
            </p:nvSpPr>
            <p:spPr>
              <a:xfrm>
                <a:off x="1009440" y="561564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Scheduled Dial and Notific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38080" y="561564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838080" y="5852160"/>
              <a:ext cx="5637600" cy="236160"/>
              <a:chOff x="838080" y="5852160"/>
              <a:chExt cx="5637600" cy="236160"/>
            </a:xfrm>
          </p:grpSpPr>
          <p:sp>
            <p:nvSpPr>
              <p:cNvPr id="118" name=""/>
              <p:cNvSpPr/>
              <p:nvPr/>
            </p:nvSpPr>
            <p:spPr>
              <a:xfrm>
                <a:off x="1009440" y="585216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User Call Log manag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38080" y="585216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838080" y="6088320"/>
              <a:ext cx="5637600" cy="236160"/>
              <a:chOff x="838080" y="6088320"/>
              <a:chExt cx="5637600" cy="236160"/>
            </a:xfrm>
          </p:grpSpPr>
          <p:sp>
            <p:nvSpPr>
              <p:cNvPr id="121" name=""/>
              <p:cNvSpPr/>
              <p:nvPr/>
            </p:nvSpPr>
            <p:spPr>
              <a:xfrm>
                <a:off x="1009440" y="6088320"/>
                <a:ext cx="5294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바탕체"/>
                  </a:rPr>
                  <a:t>E-mail with Outlo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8080" y="6088320"/>
                <a:ext cx="5637600" cy="236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960" y="76320"/>
            <a:ext cx="44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atures - Login with ID &amp; Pass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8360" y="635040"/>
            <a:ext cx="48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Login ID &amp; Password &amp;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416560" y="2362320"/>
            <a:ext cx="3575160" cy="183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52280" y="1722600"/>
            <a:ext cx="5105520" cy="3574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6600" y="5486400"/>
            <a:ext cx="2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: PGM 38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8120" y="4419720"/>
            <a:ext cx="23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tage (User P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2120" y="1295280"/>
            <a:ext cx="3446640" cy="1724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37602" t="42404" r="31102" b="33333"/>
          <a:stretch/>
        </p:blipFill>
        <p:spPr>
          <a:xfrm>
            <a:off x="5416560" y="1295280"/>
            <a:ext cx="3495600" cy="1598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556240" y="3809880"/>
            <a:ext cx="2959200" cy="1454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92120" y="3533760"/>
            <a:ext cx="3446640" cy="2104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470640" y="3048120"/>
            <a:ext cx="187200" cy="533160"/>
          </a:xfrm>
          <a:prstGeom prst="downArrow">
            <a:avLst>
              <a:gd name="adj1" fmla="val 50000"/>
              <a:gd name="adj2" fmla="val 7120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49720" y="4724280"/>
            <a:ext cx="1003320" cy="176400"/>
          </a:xfrm>
          <a:prstGeom prst="leftArrow">
            <a:avLst>
              <a:gd name="adj1" fmla="val 50000"/>
              <a:gd name="adj2" fmla="val 14219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960" y="76320"/>
            <a:ext cx="44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atures - Login with ID &amp; Pass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6920" y="63504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 with ID &amp; Pass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360320" y="1981080"/>
            <a:ext cx="896760" cy="176400"/>
          </a:xfrm>
          <a:prstGeom prst="leftArrow">
            <a:avLst>
              <a:gd name="adj1" fmla="val 50000"/>
              <a:gd name="adj2" fmla="val 12709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5600" y="79200"/>
            <a:ext cx="264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I &amp; GUI – Ph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3680" y="60804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tage Main 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696440" cy="43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2857680" y="4295880"/>
          <a:ext cx="492120" cy="25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7680" y="4295880"/>
                    <a:ext cx="4921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09960" y="1295280"/>
            <a:ext cx="3719520" cy="2914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5600" y="79200"/>
            <a:ext cx="264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I &amp; GUI – Ph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3680" y="60804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tage Main 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03440" y="4419720"/>
            <a:ext cx="2039760" cy="1598400"/>
          </a:xfrm>
          <a:prstGeom prst="rect">
            <a:avLst/>
          </a:prstGeom>
          <a:ln w="9360">
            <a:solidFill>
              <a:srgbClr val="fc0128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406520" y="4573440"/>
            <a:ext cx="2040120" cy="1598760"/>
          </a:xfrm>
          <a:prstGeom prst="rect">
            <a:avLst/>
          </a:prstGeom>
          <a:ln w="12600">
            <a:solidFill>
              <a:srgbClr val="fc0128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320920" y="4573440"/>
            <a:ext cx="2040120" cy="1598760"/>
          </a:xfrm>
          <a:prstGeom prst="rect">
            <a:avLst/>
          </a:prstGeom>
          <a:ln w="12600">
            <a:solidFill>
              <a:srgbClr val="fc0128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3305160" y="4649760"/>
            <a:ext cx="2040120" cy="1598760"/>
          </a:xfrm>
          <a:prstGeom prst="rect">
            <a:avLst/>
          </a:prstGeom>
          <a:ln w="12600">
            <a:solidFill>
              <a:srgbClr val="fc0128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5133960" y="4497480"/>
            <a:ext cx="2040120" cy="1598400"/>
          </a:xfrm>
          <a:prstGeom prst="rect">
            <a:avLst/>
          </a:prstGeom>
          <a:ln w="12600">
            <a:solidFill>
              <a:srgbClr val="fc0128"/>
            </a:solidFill>
            <a:miter/>
          </a:ln>
        </p:spPr>
      </p:pic>
      <p:sp>
        <p:nvSpPr>
          <p:cNvPr id="151" name=""/>
          <p:cNvSpPr/>
          <p:nvPr/>
        </p:nvSpPr>
        <p:spPr>
          <a:xfrm flipH="1">
            <a:off x="1336680" y="4038480"/>
            <a:ext cx="984240" cy="4572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969920" y="4038480"/>
            <a:ext cx="914400" cy="6098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953800" y="4038480"/>
            <a:ext cx="422280" cy="6098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38760" y="3962520"/>
            <a:ext cx="0" cy="7617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64120" y="4038480"/>
            <a:ext cx="563400" cy="5335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838840" y="4343400"/>
            <a:ext cx="2281320" cy="1787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27520" y="4038480"/>
            <a:ext cx="914400" cy="4572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13120" y="685800"/>
            <a:ext cx="24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ite Contact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8400" y="79200"/>
            <a:ext cx="258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I &amp; GUI– Ph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98040" y="6858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ing List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2280" y="3352680"/>
            <a:ext cx="3311640" cy="2094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2479680" cy="1676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219560" y="1828800"/>
            <a:ext cx="3719520" cy="2914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753240" y="2514600"/>
            <a:ext cx="1265400" cy="13716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716720" y="777960"/>
            <a:ext cx="24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 Book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400" y="79200"/>
            <a:ext cx="258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I &amp; GUI– Pho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120" y="762120"/>
            <a:ext cx="28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 Button Info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1160" y="1752480"/>
            <a:ext cx="3570120" cy="2457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782960" y="1295280"/>
            <a:ext cx="3719520" cy="2914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908680" y="2971800"/>
            <a:ext cx="2830680" cy="28224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189840" y="1752480"/>
            <a:ext cx="4921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0T15:36:54Z</dcterms:created>
  <dc:creator>Sam Choi</dc:creator>
  <dc:description/>
  <dc:language>en-US</dc:language>
  <cp:lastModifiedBy>kimkr</cp:lastModifiedBy>
  <cp:lastPrinted>2000-08-24T02:51:41Z</cp:lastPrinted>
  <dcterms:modified xsi:type="dcterms:W3CDTF">2006-11-28T05:15:20Z</dcterms:modified>
  <cp:revision>221</cp:revision>
  <dc:subject/>
  <dc:title>Illinois Governor Visit</dc:title>
</cp:coreProperties>
</file>